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E0D5-5610-481A-876D-E578CC16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AFE7-82C3-4E58-B7AA-FE3B8A3A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3EBB-255C-449A-B4F0-A9DE652B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304-DB50-4D7F-A6AA-CEAE0F16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98E-57AF-4CD6-9A5F-94EBBD75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167-D791-4FE6-92EF-C88420AA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6D0-2EB3-4894-B4D3-107739B5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678E-E2A7-40D0-BB21-E2ECFF04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204F-7007-4F7C-A2E4-A5D2857E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35E-86DF-47C7-85F9-72D5E0A8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023-511A-43BF-8AFC-B5934690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779-4935-4EA4-B304-4D17438C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C30A-2107-46DD-8908-FAC458FE4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oundtrack - Madagascar - I Like to Move it.mp3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strobe-motion-ta-08"/>
          <p:cNvPicPr/>
          <p:nvPr/>
        </p:nvPicPr>
        <p:blipFill>
          <a:blip r:embed="rId2"/>
          <a:stretch/>
        </p:blipFill>
        <p:spPr>
          <a:xfrm>
            <a:off x="914400" y="457200"/>
            <a:ext cx="7023240" cy="3657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ANIMATION-DancingGrandpa"/>
          <p:cNvPicPr/>
          <p:nvPr/>
        </p:nvPicPr>
        <p:blipFill>
          <a:blip r:embed="rId3"/>
          <a:stretch/>
        </p:blipFill>
        <p:spPr>
          <a:xfrm>
            <a:off x="1523880" y="3505320"/>
            <a:ext cx="17146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732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y is Velocity important to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ilo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velocity-SEFG"/>
          <p:cNvPicPr/>
          <p:nvPr/>
        </p:nvPicPr>
        <p:blipFill>
          <a:blip r:embed="rId1"/>
          <a:stretch/>
        </p:blipFill>
        <p:spPr>
          <a:xfrm>
            <a:off x="990720" y="1752480"/>
            <a:ext cx="7162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bining Veloc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wing downstream  16 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 10 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+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wing upstream           16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  10 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--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rowing upstream"/>
          <p:cNvPicPr/>
          <p:nvPr/>
        </p:nvPicPr>
        <p:blipFill>
          <a:blip r:embed="rId1"/>
          <a:stretch/>
        </p:blipFill>
        <p:spPr>
          <a:xfrm>
            <a:off x="6248520" y="4267080"/>
            <a:ext cx="2762280" cy="1849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rowing"/>
          <p:cNvPicPr/>
          <p:nvPr/>
        </p:nvPicPr>
        <p:blipFill>
          <a:blip r:embed="rId2"/>
          <a:stretch/>
        </p:blipFill>
        <p:spPr>
          <a:xfrm>
            <a:off x="6705720" y="1295280"/>
            <a:ext cx="19335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ying it all togeth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Speed__Velocity__Acceleration__and_Deceleration.asf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7724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55766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800" y="733320"/>
            <a:ext cx="601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cel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the rate of change in velocity; an object accelerates if its speed, direction or both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velocity  -  original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 car is traveling at 60 km/hr.  It accelerates to 85 km/hr in 5 hrs.  What is the rate of accele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(final) – V(orig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5 – 6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  5 km/hr/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If the acceleration is negative than the object is decelerating (slowing dow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accelertion"/>
          <p:cNvPicPr/>
          <p:nvPr/>
        </p:nvPicPr>
        <p:blipFill>
          <a:blip r:embed="rId1"/>
          <a:stretch/>
        </p:blipFill>
        <p:spPr>
          <a:xfrm>
            <a:off x="6172200" y="1371600"/>
            <a:ext cx="277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raphing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acceleration graph"/>
          <p:cNvPicPr/>
          <p:nvPr/>
        </p:nvPicPr>
        <p:blipFill>
          <a:blip r:embed="rId1"/>
          <a:stretch/>
        </p:blipFill>
        <p:spPr>
          <a:xfrm>
            <a:off x="533520" y="1905120"/>
            <a:ext cx="350820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decel graph"/>
          <p:cNvPicPr/>
          <p:nvPr/>
        </p:nvPicPr>
        <p:blipFill>
          <a:blip r:embed="rId2"/>
          <a:stretch/>
        </p:blipFill>
        <p:spPr>
          <a:xfrm>
            <a:off x="5105520" y="3657600"/>
            <a:ext cx="3611520" cy="2536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204200" y="4206960"/>
            <a:ext cx="24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547600" y="298764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lculating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alculating_Average_Speed.asf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79999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tion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mentu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depends on the mass and velocity with which it is trav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mentum = mass x 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What is the momentum of a 5 kg blue-jay flying at 10 m/se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 = 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 = 5 kg x 10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 =  50 kg/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loop"/>
          <p:cNvPicPr/>
          <p:nvPr/>
        </p:nvPicPr>
        <p:blipFill>
          <a:blip r:embed="rId1"/>
          <a:stretch/>
        </p:blipFill>
        <p:spPr>
          <a:xfrm>
            <a:off x="6095880" y="4038480"/>
            <a:ext cx="28558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ansfer of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Bill Nye the Science Guy - A Transfer of Momentum.WMV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5887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mentum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447920" y="1447920"/>
            <a:ext cx="5943600" cy="3504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bus_momentum"/>
          <p:cNvPicPr/>
          <p:nvPr/>
        </p:nvPicPr>
        <p:blipFill>
          <a:blip r:embed="rId1"/>
          <a:stretch/>
        </p:blipFill>
        <p:spPr>
          <a:xfrm>
            <a:off x="1905120" y="1523880"/>
            <a:ext cx="49543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can you use all this inform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video.WMV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51772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pplying physics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Amazing Physics.WMV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07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do you KNOW something mov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ame of refere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background or object used for comparison.  All movement is described relative to a frame of re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:  a train takes off with you in it.  To the people watching on the ground, it is the Earth.  To you, it is the t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st comm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ame of reference is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EarthAS17"/>
          <p:cNvPicPr/>
          <p:nvPr/>
        </p:nvPicPr>
        <p:blipFill>
          <a:blip r:embed="rId1"/>
          <a:stretch/>
        </p:blipFill>
        <p:spPr>
          <a:xfrm>
            <a:off x="6019920" y="2362320"/>
            <a:ext cx="271116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is the frame of 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lemonshot-1"/>
          <p:cNvPicPr/>
          <p:nvPr/>
        </p:nvPicPr>
        <p:blipFill>
          <a:blip r:embed="rId1"/>
          <a:stretch/>
        </p:blipFill>
        <p:spPr>
          <a:xfrm>
            <a:off x="152280" y="1165320"/>
            <a:ext cx="1957680" cy="125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lemonshot-2"/>
          <p:cNvPicPr/>
          <p:nvPr/>
        </p:nvPicPr>
        <p:blipFill>
          <a:blip r:embed="rId2"/>
          <a:stretch/>
        </p:blipFill>
        <p:spPr>
          <a:xfrm>
            <a:off x="1828800" y="2306520"/>
            <a:ext cx="1984320" cy="1258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lemonshot-3"/>
          <p:cNvPicPr/>
          <p:nvPr/>
        </p:nvPicPr>
        <p:blipFill>
          <a:blip r:embed="rId3"/>
          <a:stretch/>
        </p:blipFill>
        <p:spPr>
          <a:xfrm>
            <a:off x="3733920" y="3344760"/>
            <a:ext cx="1914480" cy="1212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lemonshot-4"/>
          <p:cNvPicPr/>
          <p:nvPr/>
        </p:nvPicPr>
        <p:blipFill>
          <a:blip r:embed="rId4"/>
          <a:stretch/>
        </p:blipFill>
        <p:spPr>
          <a:xfrm>
            <a:off x="5562720" y="4440240"/>
            <a:ext cx="1990440" cy="126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lemonshot-5"/>
          <p:cNvPicPr/>
          <p:nvPr/>
        </p:nvPicPr>
        <p:blipFill>
          <a:blip r:embed="rId5"/>
          <a:stretch/>
        </p:blipFill>
        <p:spPr>
          <a:xfrm>
            <a:off x="7162920" y="5484960"/>
            <a:ext cx="1981080" cy="1276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302760" y="4648320"/>
            <a:ext cx="399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we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ullet go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ough the lem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asuring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6172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a change in position in a certain amount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the rate at which an object mo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ed = Distance/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d is measured m/sec or km/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animated-quartic"/>
          <p:cNvPicPr/>
          <p:nvPr/>
        </p:nvPicPr>
        <p:blipFill>
          <a:blip r:embed="rId1"/>
          <a:stretch/>
        </p:blipFill>
        <p:spPr>
          <a:xfrm>
            <a:off x="6019920" y="1600200"/>
            <a:ext cx="26287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ich animal is the fast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No_Speed_Limit__Introducing_the_Cheetah.asf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31520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68566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457200" y="14479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-348840" y="1600200"/>
            <a:ext cx="9762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what speed did a plane fly if it travel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0 m in 5 secon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At what speed did a boy run if he went 2 k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20 m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At what speed did a bird fly if he went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tree to another (35 m) in 7 secon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3"/>
          <p:cNvSpPr/>
          <p:nvPr/>
        </p:nvSpPr>
        <p:spPr>
          <a:xfrm>
            <a:off x="6324480" y="4724280"/>
            <a:ext cx="2286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ypes of 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tant spe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when the speed of an object does not change.  The graph is always a straight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verage spe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describes the speed of motion when speed is changing; graph is a jagge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locit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a speed in a given direction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Speed 10m/sec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Velocity 10m/sec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762120" y="4724280"/>
            <a:ext cx="22096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0" descr="constant speed"/>
          <p:cNvPicPr/>
          <p:nvPr/>
        </p:nvPicPr>
        <p:blipFill>
          <a:blip r:embed="rId1"/>
          <a:stretch/>
        </p:blipFill>
        <p:spPr>
          <a:xfrm>
            <a:off x="762120" y="4952880"/>
            <a:ext cx="2138400" cy="1629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1"/>
          <p:cNvSpPr/>
          <p:nvPr/>
        </p:nvSpPr>
        <p:spPr>
          <a:xfrm>
            <a:off x="3048120" y="54100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ant sp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12" descr="windspeedg"/>
          <p:cNvPicPr/>
          <p:nvPr/>
        </p:nvPicPr>
        <p:blipFill>
          <a:blip r:embed="rId2"/>
          <a:stretch/>
        </p:blipFill>
        <p:spPr>
          <a:xfrm>
            <a:off x="6324480" y="4648320"/>
            <a:ext cx="2286000" cy="1476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"/>
          <p:cNvSpPr/>
          <p:nvPr/>
        </p:nvSpPr>
        <p:spPr>
          <a:xfrm>
            <a:off x="5089680" y="5421240"/>
            <a:ext cx="12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 you use this inform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The_Physics_of_Skateboards.asf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93432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0563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0:38:24Z</dcterms:created>
  <dc:creator>James Scheuer</dc:creator>
  <dc:description/>
  <dc:language>en-US</dc:language>
  <cp:lastModifiedBy>James Scheuer</cp:lastModifiedBy>
  <dcterms:modified xsi:type="dcterms:W3CDTF">2016-01-12T14:26:19Z</dcterms:modified>
  <cp:revision>26</cp:revision>
  <dc:subject/>
  <dc:title>Motion</dc:title>
</cp:coreProperties>
</file>